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6E5-5605-4484-9A9A-F4E5AD861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C88A-C24E-4147-BCB4-5CF958ECA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F810-6280-4417-A476-886286CE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A06D-7618-4F5A-8A0F-2D7DAD8AB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E908-B10B-4E9F-BD3F-1D45A095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103-4419-491B-98CB-4EA5004B5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A03-8BC8-4D42-9829-14BCF413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56E-60A7-4EC1-B465-F408FD03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86D-19EA-47E0-B257-E0315EDF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62F-4F12-4A70-ADA9-4C96E016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6AD-EC4E-4786-8FBB-2412E9C8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7B2-C2E6-443C-BF1E-B4EBB8A8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DBC-F3FA-4F1B-A133-CAB1B272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C75-A3A5-451C-AE23-409DDB9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ED4-2247-4971-BB4F-B935F66C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A6A-41F6-409C-8501-B9AA6B2F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94D-798E-4063-94C2-618CCFCA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FED-D5ED-41D6-B681-1713DB8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690-F473-437C-B0FD-E2B40A90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1F3-FC1D-4F0D-8B6C-B85FCD8C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22F-F9EA-411C-B9D5-F1660291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8F8-EE88-4C83-8B4E-62D1F38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6CD-76D6-4CBC-AC75-21A63B7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719-B907-44DF-B84D-4BD6C28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9295-C66B-4176-9982-5B622E412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Marker Felt"/>
              </a:rPr>
              <a:t>Un Pulpi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905120" y="53341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r Charlotte 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048120" cy="67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248520" y="2666880"/>
            <a:ext cx="1981080" cy="10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shk11a.gif"/>
          <p:cNvPicPr/>
          <p:nvPr/>
        </p:nvPicPr>
        <p:blipFill>
          <a:blip r:embed="rId4"/>
          <a:stretch/>
        </p:blipFill>
        <p:spPr>
          <a:xfrm>
            <a:off x="3581280" y="2666880"/>
            <a:ext cx="213372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a003-cartoon-whale.gif"/>
          <p:cNvPicPr/>
          <p:nvPr/>
        </p:nvPicPr>
        <p:blipFill>
          <a:blip r:embed="rId5"/>
          <a:stretch/>
        </p:blipFill>
        <p:spPr>
          <a:xfrm>
            <a:off x="1447920" y="259092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990720" y="838080"/>
            <a:ext cx="716256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ballena, una bal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003-cartoon-whale.gif"/>
          <p:cNvPicPr/>
          <p:nvPr/>
        </p:nvPicPr>
        <p:blipFill>
          <a:blip r:embed="rId1"/>
          <a:stretch/>
        </p:blipFill>
        <p:spPr>
          <a:xfrm>
            <a:off x="2209680" y="3200400"/>
            <a:ext cx="47246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797400" y="380880"/>
            <a:ext cx="7582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ballena, una ballena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Marker Felt"/>
              </a:rPr>
              <a:t>(Burp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Perdóna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003-cartoon-whale.gif"/>
          <p:cNvPicPr/>
          <p:nvPr/>
        </p:nvPicPr>
        <p:blipFill>
          <a:blip r:embed="rId1"/>
          <a:stretch/>
        </p:blipFill>
        <p:spPr>
          <a:xfrm>
            <a:off x="2209680" y="3200400"/>
            <a:ext cx="47246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sardina, una sardin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</a:t>
            </a:r>
            <a:r>
              <a:rPr b="0" lang="en-US" sz="3600" spc="-1" strike="noStrike">
                <a:solidFill>
                  <a:srgbClr val="000000"/>
                </a:solidFill>
                <a:latin typeface="Marker Felt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7724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a sardina, una sardina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Oh, no!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ue comida por 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77724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pulpito, un pulpito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</a:t>
            </a:r>
            <a:r>
              <a:rPr b="0" lang="en-US" sz="3600" spc="-1" strike="noStrike">
                <a:solidFill>
                  <a:srgbClr val="000000"/>
                </a:solidFill>
                <a:latin typeface="Marker Felt"/>
              </a:rPr>
              <a:t>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3772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Un pulpito, un pulpito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¡Oh, no!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arker Felt"/>
              </a:rPr>
              <a:t>Fue comido por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772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atún, un atú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</a:t>
            </a:r>
            <a:r>
              <a:rPr b="0" lang="en-US" sz="3200" spc="-1" strike="noStrike">
                <a:solidFill>
                  <a:srgbClr val="000000"/>
                </a:solidFill>
                <a:latin typeface="Marker Felt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715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atún, un atú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Glup, Glup, Glup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Oh, no!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ue comido por …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2578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tiburón, un tibur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nada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en el agua,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hk11a.gif"/>
          <p:cNvPicPr/>
          <p:nvPr/>
        </p:nvPicPr>
        <p:blipFill>
          <a:blip r:embed="rId1"/>
          <a:stretch/>
        </p:blipFill>
        <p:spPr>
          <a:xfrm>
            <a:off x="1371600" y="2666880"/>
            <a:ext cx="66452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 tiburón, un tiburó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Glup, Glup, Glup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¡Oh, no!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Fue comido por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hk11a.gif"/>
          <p:cNvPicPr/>
          <p:nvPr/>
        </p:nvPicPr>
        <p:blipFill>
          <a:blip r:embed="rId1"/>
          <a:stretch/>
        </p:blipFill>
        <p:spPr>
          <a:xfrm>
            <a:off x="1371600" y="2666880"/>
            <a:ext cx="55627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2:40:22Z</dcterms:created>
  <dc:creator>M. DeBoer</dc:creator>
  <dc:description/>
  <dc:language>en-US</dc:language>
  <cp:lastModifiedBy>User</cp:lastModifiedBy>
  <dcterms:modified xsi:type="dcterms:W3CDTF">2011-05-11T14:40:33Z</dcterms:modified>
  <cp:revision>17</cp:revision>
  <dc:subject/>
  <dc:title>PowerPoint Presentation</dc:title>
</cp:coreProperties>
</file>